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CA7-C6D7-4CF8-B2C5-07E6AD7CF5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535C-872E-47AF-BD35-771E4C044E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EB4-CDCA-41E7-B557-DDA39D3B9C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F35-7CC1-4E61-902E-D6C24745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366-E7E5-4A69-9332-63380D1E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472-5BFE-490B-91BF-C37F39A4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8C9-97A8-447B-9A9B-29335937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D67-11C9-4602-B746-2953C227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E5D-1A64-4896-93D9-CF5BEB39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72D-24B6-419A-8C42-ADA383E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408-AD96-4024-BB75-025C1E82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994-64CD-4B0F-A351-F07E738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5FF-048C-4771-AA93-A9DF3B3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012-6927-4A9B-968C-17418C9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1A7-6120-4934-BDE6-49958234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9F8A-75A3-4617-88CF-24C417D51DCA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0N_)R`RQXD[}`MSVS4%0]2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714680" y="26989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15.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禹治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1038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86040" y="51102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陆宇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214720" y="2357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862720" y="500040"/>
            <a:ext cx="28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继续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571760" y="1928880"/>
            <a:ext cx="556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吸取教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34000" y="3429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疏导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330280" y="3714840"/>
            <a:ext cx="131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421000" y="5072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疏导、开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241720" y="-71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jìx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7120" y="1714680"/>
            <a:ext cx="8501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毒蛇猛兽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被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农业生产渐渐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恢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安居乐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1430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274560" y="2928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58320" y="1785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00040" y="1563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大家在被水淹过的土地上耕种，农业生产渐渐恢复了，百姓重新过上了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的生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十三年。这十三年里，他到处奔走，曾经三次路过自己家门口。可是他认为治水要紧，一次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十三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。这十三年里，他到处奔走，曾经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三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路过自己家门口。可是他认为治水要紧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2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47120" y="428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三过家门而不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12873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按照提示，复述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294804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，没有治好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治水，三过家门而不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用疏通河道的办法，带领人们治好了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曲线连接符 8"/>
          <p:cNvCxnSpPr/>
          <p:nvPr/>
        </p:nvCxnSpPr>
        <p:spPr>
          <a:xfrm>
            <a:off x="6714720" y="2857680"/>
            <a:ext cx="857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28760" y="1000080"/>
            <a:ext cx="7858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000160" y="28051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洪  难  道  灾    认  被  产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t01c54c823b104db13b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5716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禹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后氏首领、夏朝开国君王。他最卓著的功绩，就是历来被传颂的治理了滔天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642960" y="2071800"/>
            <a:ext cx="3313080" cy="3527280"/>
            <a:chOff x="642960" y="2071800"/>
            <a:chExt cx="3313080" cy="3527280"/>
          </a:xfrm>
        </p:grpSpPr>
        <p:sp>
          <p:nvSpPr>
            <p:cNvPr id="122" name="Rectangle 3"/>
            <p:cNvSpPr/>
            <p:nvPr/>
          </p:nvSpPr>
          <p:spPr>
            <a:xfrm>
              <a:off x="642960" y="207180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642960" y="386244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2299320" y="207180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5000760" y="2000160"/>
            <a:ext cx="3311280" cy="3529080"/>
            <a:chOff x="5000760" y="2000160"/>
            <a:chExt cx="3311280" cy="3529080"/>
          </a:xfrm>
        </p:grpSpPr>
        <p:sp>
          <p:nvSpPr>
            <p:cNvPr id="126" name="Rectangle 7"/>
            <p:cNvSpPr/>
            <p:nvPr/>
          </p:nvSpPr>
          <p:spPr>
            <a:xfrm>
              <a:off x="5000760" y="200016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5000760" y="379188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56400" y="200016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539640" y="1773360"/>
            <a:ext cx="3816360" cy="39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洪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00760" y="164304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436040" y="42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左窄右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"/>
          <p:cNvGrpSpPr/>
          <p:nvPr/>
        </p:nvGrpSpPr>
        <p:grpSpPr>
          <a:xfrm>
            <a:off x="755640" y="2187720"/>
            <a:ext cx="3313080" cy="3527280"/>
            <a:chOff x="755640" y="2187720"/>
            <a:chExt cx="3313080" cy="3527280"/>
          </a:xfrm>
        </p:grpSpPr>
        <p:sp>
          <p:nvSpPr>
            <p:cNvPr id="134" name="Rectangle 3"/>
            <p:cNvSpPr/>
            <p:nvPr/>
          </p:nvSpPr>
          <p:spPr>
            <a:xfrm>
              <a:off x="755640" y="2187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755640" y="3978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412000" y="2187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072040" y="2214720"/>
            <a:ext cx="3311640" cy="3528720"/>
            <a:chOff x="5072040" y="2214720"/>
            <a:chExt cx="3311640" cy="3528720"/>
          </a:xfrm>
        </p:grpSpPr>
        <p:sp>
          <p:nvSpPr>
            <p:cNvPr id="138" name="Rectangle 7"/>
            <p:cNvSpPr/>
            <p:nvPr/>
          </p:nvSpPr>
          <p:spPr>
            <a:xfrm>
              <a:off x="5072040" y="2214720"/>
              <a:ext cx="3311640" cy="352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072040" y="4006080"/>
              <a:ext cx="331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6727680" y="2214720"/>
              <a:ext cx="0" cy="352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0"/>
          <p:cNvSpPr/>
          <p:nvPr/>
        </p:nvSpPr>
        <p:spPr>
          <a:xfrm>
            <a:off x="755640" y="174132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143680" y="192888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认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610640" y="29289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865120" y="200016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450680" y="587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主动避让有礼貌，巧妙穿插很友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785880" y="2214720"/>
            <a:ext cx="3313080" cy="3527280"/>
            <a:chOff x="785880" y="2214720"/>
            <a:chExt cx="3313080" cy="3527280"/>
          </a:xfrm>
        </p:grpSpPr>
        <p:sp>
          <p:nvSpPr>
            <p:cNvPr id="148" name="Rectangle 3"/>
            <p:cNvSpPr/>
            <p:nvPr/>
          </p:nvSpPr>
          <p:spPr>
            <a:xfrm>
              <a:off x="785880" y="2214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785880" y="4005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2442240" y="2214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5143680" y="2286000"/>
            <a:ext cx="3311280" cy="3529080"/>
            <a:chOff x="5143680" y="2286000"/>
            <a:chExt cx="3311280" cy="3529080"/>
          </a:xfrm>
        </p:grpSpPr>
        <p:sp>
          <p:nvSpPr>
            <p:cNvPr id="152" name="Rectangle 7"/>
            <p:cNvSpPr/>
            <p:nvPr/>
          </p:nvSpPr>
          <p:spPr>
            <a:xfrm>
              <a:off x="5143680" y="228600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143680" y="407772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6799320" y="228600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0"/>
          <p:cNvSpPr/>
          <p:nvPr/>
        </p:nvSpPr>
        <p:spPr>
          <a:xfrm>
            <a:off x="684360" y="178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72040" y="209880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714240" y="50004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找主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160240" y="307188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 rot="376800">
            <a:off x="835200" y="3260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"/>
          <p:cNvGrpSpPr/>
          <p:nvPr/>
        </p:nvGrpSpPr>
        <p:grpSpPr>
          <a:xfrm>
            <a:off x="2786040" y="1071720"/>
            <a:ext cx="3313080" cy="3527280"/>
            <a:chOff x="2786040" y="1071720"/>
            <a:chExt cx="3313080" cy="3527280"/>
          </a:xfrm>
        </p:grpSpPr>
        <p:sp>
          <p:nvSpPr>
            <p:cNvPr id="162" name="Rectangle 3"/>
            <p:cNvSpPr/>
            <p:nvPr/>
          </p:nvSpPr>
          <p:spPr>
            <a:xfrm>
              <a:off x="2786040" y="1071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2786040" y="2862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4442400" y="1071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2928960" y="714240"/>
            <a:ext cx="3786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9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"/>
          <p:cNvGrpSpPr/>
          <p:nvPr/>
        </p:nvGrpSpPr>
        <p:grpSpPr>
          <a:xfrm>
            <a:off x="3000240" y="1214280"/>
            <a:ext cx="3313080" cy="3527640"/>
            <a:chOff x="3000240" y="1214280"/>
            <a:chExt cx="3313080" cy="3527640"/>
          </a:xfrm>
        </p:grpSpPr>
        <p:sp>
          <p:nvSpPr>
            <p:cNvPr id="168" name="Rectangle 3"/>
            <p:cNvSpPr/>
            <p:nvPr/>
          </p:nvSpPr>
          <p:spPr>
            <a:xfrm>
              <a:off x="3000240" y="1214280"/>
              <a:ext cx="3313080" cy="3527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3000240" y="300528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656600" y="1214280"/>
              <a:ext cx="0" cy="352764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3112920" y="71424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5712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642960" y="1000080"/>
            <a:ext cx="7786800" cy="226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禹治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滔滔的洪水淹没了农田，冲倒了房屋，害得老百姓无家可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下决心要治理洪水。他吃尽了千辛万苦，走遍了千山万水，仔细地察看水流和地形。他带领老百姓挖通了九条大河，劈开了九座大山，引导洪水流入了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在外治水</a:t>
            </a:r>
            <a:r>
              <a:rPr b="0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年，曾经三次路过自己的家门，但他一次也没有进去看一看，禹的儿子十多岁了，还不知道父亲是个什么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洪水被制服了，老百姓过上了安定的日子，大家非常感激这位治水的伟大英雄。从此，大禹的名字代代相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7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陆宇慧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28800" y="30718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2960" y="1571760"/>
            <a:ext cx="44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8920" y="15717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04880" y="1571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泛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654560" y="8571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052440" y="400068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海、流、治、淹、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571760" y="100008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形标注 4"/>
          <p:cNvSpPr/>
          <p:nvPr/>
        </p:nvSpPr>
        <p:spPr>
          <a:xfrm>
            <a:off x="3643200" y="428760"/>
            <a:ext cx="464364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联系下文，我知道“泛滥”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85840" y="3200400"/>
            <a:ext cx="85010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生活痛苦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:\滔滔洪水图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85920" y="1000080"/>
            <a:ext cx="628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毒蛇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猛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兽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无数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灾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88480" y="392904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然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42920" y="1357200"/>
            <a:ext cx="871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</a:t>
            </a: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生活痛苦极了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4200" y="1500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只知道筑坝挡水  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仍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然没有消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14720" y="17146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14200" y="18082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挡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357720" y="235728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388680" y="350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阻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_</cp:lastModifiedBy>
  <dcterms:modified xsi:type="dcterms:W3CDTF">2017-08-22T05:47:43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